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2A9-159E-4899-9610-727A4602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12C-DCE6-4BD7-AFE8-AC6BC4CB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82D-F058-4870-91C0-9D94ED33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CB0-7E95-46B2-BA35-0E84A4F5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E58-06E3-4799-A348-A17B7F8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403-28DA-412C-83E2-4443B96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B3D-468D-40DA-BD0B-933E7B6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C76-9ACC-44DD-A028-4401130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3E1-7A61-47D6-9054-E518DBC8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AC3-29B1-43CE-99FF-4F5C623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8AC-3767-41D3-8D9E-2AD3573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91B-8B47-452A-B3B3-7335624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C97A-24EE-4814-92B1-4077E7B06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fzo.rs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8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78160" y="30189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ЕКОНОМСКИХ СТУД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упоређује добро дефинисане алтернативне поступке 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дефинише гледиште са кога се спроводи анали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цитира добре доказе 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 студији идентификовани сви релевантни трошкови и ефекти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сте економских студиј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min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ефикасност (cost/effective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ат два или више поступака се изрази у истим јединицама (нпр. трајање хоспитализације, смртност после месец дана и сл.), а затим се упоређују трошкови по јединици мер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добробит (cost/bene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ти два или више поступака су изражени у различитим јединицама, али се затим конвертују у заједничку јединицу (нпр. новац); на крају се трошкови упоређују по заједничкој једи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употребљивост (cost/ut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Adjusted Life Years (QА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(sensitivity analysis – анализа осетљив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на нашег пацијент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р података за цене у Србији: тарифна књига РФЗО-а и Листа лекова РФЗО-а. Доступно на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rfzo.rs/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32:01Z</dcterms:modified>
  <cp:revision>58</cp:revision>
  <dc:subject/>
  <dc:title>Slide 1</dc:title>
</cp:coreProperties>
</file>